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media/image8.jpeg" ContentType="image/jpe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DAB-83C9-4B30-B39D-9A9C1BF3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795-ED34-43F3-A041-740B357F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EFE-D7C0-4433-8852-7EFCF6C4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FEC-BFC3-4711-A24A-DCCB15BA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A0C-0408-4E73-A31F-82DA1F1C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89CDB-258E-4BE6-9A1B-C9BAB07E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F45D9-4967-44C8-A903-858E626B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CE9D4-34D2-46CD-8BFC-E210400E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C2216-411E-4AE8-A057-F12EFF81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D3A97-384B-4F98-AF41-DF692788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33C-1385-4C65-AFF8-4AA69479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3076C-3725-4B09-8CFC-72DA7689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F10CE-FAFC-4519-A942-A5B03A5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BD9FA-82A9-45A5-A24B-C44AAC8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327F2-8C2C-4464-A3BC-491BAA9C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0820C-CA9B-4143-8245-451D4B52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2526F-8B3D-4E47-9BAD-FFC8F64D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5C87B-4E86-4AC1-A088-5B7C145C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ED2-D141-4977-BC52-14CFD549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A90-01BF-4628-AAFE-B95D2C3D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00D-0D52-43AE-A1F4-220FB65A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F30-7109-49B8-B8D4-62F57048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401-2DDE-4BF4-BF4E-60A83468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8AA-EBC9-4C82-9D3B-3E82CF52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E47D-7DF7-4AEE-B9BB-3D081E3DEA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480" y="2057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9091-3550-4D09-9DBE-CC9546A1E669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51880" y="254160"/>
            <a:ext cx="139932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曹刿论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80680" y="3505320"/>
            <a:ext cx="789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《左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9520" y="4900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c1202"/>
                </a:solidFill>
                <a:latin typeface="Times New Roman"/>
              </a:rPr>
              <a:t>（复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73440" y="949320"/>
            <a:ext cx="547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叙述的主要史实是什么？课文是按照什么顺序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叙述的？叙述这一史实的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肉食者鄙，未能远谋”一句在文中的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刿和鲁庄公的对话，体现了曹刿怎样的战略战术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52560" y="1901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齐鲁长勺之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9440" y="2333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时间顺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05640" y="269388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表现曹刿卓越的政治远见和军事才能，给后世以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战术的借鉴和启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00" y="4076640"/>
            <a:ext cx="84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句话是全文的总纲，为下文写庄公的目光短浅作铺垫；表现了曹刿的远谋，为下文写曹刿张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25400" y="6078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政治上要取信于民；军事上要掌握战机，详察敌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916360" y="0"/>
            <a:ext cx="2663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自学检测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1040" y="372960"/>
            <a:ext cx="408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庄公的“鄙”具体表现在哪些方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曹刿和鲁庄公各是怎样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1840" y="990720"/>
            <a:ext cx="567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鲁庄公的“鄙”具体表现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不能认识取信于民的重要性，把战争取胜的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寄托在近臣的拥护和神灵的保佑上（从战前和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刿的对话可以看出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急躁冒进（从“公将鼓之”“公将驰之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对军事一无所知。（从“既克，公问其故”可看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42560" y="4332240"/>
            <a:ext cx="50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曹    刿：具有爱国思想；有政治远见；沉着冷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有军事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鲁庄公：政治上目光短浅；军事上缺乏谋略；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能虚心纳谏，任用贤才，不失为一位明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85800"/>
            <a:ext cx="518148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6666"/>
                </a:solidFill>
                <a:latin typeface="宋体"/>
              </a:rPr>
              <a:t>        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本文记叙了齐鲁长勺之战的经过，以曹刿对战争的论述贯穿全文，阐明了必须取信于民，运用正确的战略战术并掌握战机才能取胜的道理，表现了曹刿的政治卓见和非凡的军事才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29200" y="2743200"/>
          <a:ext cx="411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743200"/>
                    <a:ext cx="411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28600" y="304920"/>
            <a:ext cx="41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中心思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76520" y="660240"/>
            <a:ext cx="547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文章内容，说说弱国在对强国的战争中，应采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的战略战术原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刿在这场战役中的表现给了我们哪些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国在长勺之战中取胜，与鲁庄公有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73720" y="204624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政治上要取信于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军事上要掌握战机，详察敌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711600"/>
            <a:ext cx="613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示例：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我们遇事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思而后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切不可莽撞行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对事物的正确判断应建立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仔细观察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周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析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基础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86400" y="579600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有关；因为鲁庄公虚心听取了曹刿的意见和建议，让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刿的才能得以施展，使鲁国在长勺之战中取得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5280" y="74520"/>
            <a:ext cx="243828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总结拓展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4920"/>
            <a:ext cx="20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分钟完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59280" y="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当堂训练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917640" y="333360"/>
            <a:ext cx="7278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翻译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肉食者鄙，未能远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夫战，勇气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彼竭我盈，故克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十年春，齐师伐我”交代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曹刿战前和乡人的对话，体现了他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想；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庄公的战前对话，体现了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战略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第二段文字叙述了长勺之战的全过程。在此过程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庄公“将鼓”、“将驰”表明了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刿两个“未可”、“可矣”表明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83480" y="1125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Arial"/>
              </a:rPr>
              <a:t>大官们目光短浅，不能深谋远虑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67520" y="1989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Arial"/>
              </a:rPr>
              <a:t>打仗是靠勇气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31760" y="285264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Arial"/>
              </a:rPr>
              <a:t>他们的勇气已经完了，我们的勇气正旺盛，所以战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Arial"/>
              </a:rPr>
              <a:t>了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93000" y="371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作战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84880" y="371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交战双方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2880" y="41338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战争性质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44160" y="458136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爱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59080" y="50133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取信于民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8360" y="5862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急躁冒进，不察敌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8360" y="6294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胸有成竹，从容不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47080" y="4428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分钟完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14120" y="208080"/>
            <a:ext cx="530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文章为什么详写人物的对话，而对战争的过程却一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过，作者这样安排有什么用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齐鲁长勺之战成为我国历史上以弱胜强的著名战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后来弱国对强国的战争提供了哪些宝贵的战争经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58680" y="1628640"/>
            <a:ext cx="535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因为文题为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“曹刿论战”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，重点写论战，而不是交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目的在于给后世以战略思想的借鉴和启发，同时能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曹刿远谋的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99680" y="461952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政治上要取信于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军事上要掌握战机，后发制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71640" y="981000"/>
            <a:ext cx="70102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牺牲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玉帛，弗敢加也，必以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忠之属也。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可以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  今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肉食者谋之，又何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 今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大之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狱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虽不能察，必以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  今义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16360" y="1628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隶书"/>
              </a:rPr>
              <a:t>祭祀用的猪、牛、羊等祭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16360" y="22766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为正义事业舍生，引申为丢弃某种利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50532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隶书"/>
              </a:rPr>
              <a:t>可以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3505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表示可能，许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隶书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隔开，不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隶书"/>
              </a:rPr>
              <a:t>案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6095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监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7840" y="50760"/>
            <a:ext cx="153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3529080" cy="825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古今异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541440" y="-674640"/>
            <a:ext cx="9685440" cy="7264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16000" y="5516640"/>
            <a:ext cx="7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0c02"/>
                </a:solidFill>
                <a:latin typeface="宋体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0c02"/>
                </a:solidFill>
                <a:latin typeface="宋体"/>
              </a:rPr>
              <a:t>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5516640"/>
            <a:ext cx="432000" cy="107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f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5445000"/>
            <a:ext cx="68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0c02"/>
                </a:solidFill>
                <a:latin typeface="宋体"/>
              </a:rPr>
              <a:t>衣食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安</a:t>
            </a:r>
            <a:r>
              <a:rPr b="1" lang="zh-CN" sz="3200" spc="-1" strike="noStrike">
                <a:solidFill>
                  <a:srgbClr val="2c0c02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c0c02"/>
                </a:solidFill>
                <a:latin typeface="宋体"/>
              </a:rPr>
              <a:t>弗敢专也</a:t>
            </a:r>
            <a:r>
              <a:rPr b="1" lang="zh-CN" sz="3200" spc="-1" strike="noStrike">
                <a:solidFill>
                  <a:srgbClr val="2c0c02"/>
                </a:solidFill>
                <a:latin typeface="宋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安</a:t>
            </a:r>
            <a:r>
              <a:rPr b="1" lang="zh-CN" sz="3200" spc="-1" strike="noStrike">
                <a:solidFill>
                  <a:srgbClr val="2c0c02"/>
                </a:solidFill>
                <a:latin typeface="Times New Roman"/>
              </a:rPr>
              <a:t>能辨我是雄雌</a:t>
            </a:r>
            <a:r>
              <a:rPr b="1" lang="zh-CN" sz="3200" spc="-1" strike="noStrike">
                <a:solidFill>
                  <a:srgbClr val="2c0c02"/>
                </a:solidFill>
                <a:latin typeface="Times New Roman"/>
              </a:rPr>
              <a:t>(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5373720"/>
            <a:ext cx="8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602136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怎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24000" y="443700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0c02"/>
                </a:solidFill>
                <a:latin typeface="黑体"/>
                <a:ea typeface="黑体"/>
              </a:rPr>
              <a:t>十年春，齐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伐</a:t>
            </a:r>
            <a:r>
              <a:rPr b="1" lang="zh-CN" sz="3200" spc="-1" strike="noStrike">
                <a:solidFill>
                  <a:srgbClr val="2c0c02"/>
                </a:solidFill>
                <a:latin typeface="黑体"/>
                <a:ea typeface="黑体"/>
              </a:rPr>
              <a:t>我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伐</a:t>
            </a:r>
            <a:r>
              <a:rPr b="1" lang="zh-CN" sz="3200" spc="-1" strike="noStrike">
                <a:solidFill>
                  <a:srgbClr val="2c0c02"/>
                </a:solidFill>
                <a:latin typeface="Times New Roman"/>
                <a:ea typeface="黑体"/>
              </a:rPr>
              <a:t>竹取道，下见小潭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4292640"/>
            <a:ext cx="15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进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86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砍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00000" y="4292640"/>
            <a:ext cx="80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0c02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0c02"/>
                </a:solidFill>
                <a:latin typeface="Times New Roman"/>
              </a:rPr>
              <a:t>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4508640"/>
            <a:ext cx="217440" cy="936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3"/>
                </a:lnTo>
                <a:cubicBezTo>
                  <a:pt x="10800" y="9533"/>
                  <a:pt x="5400" y="10433"/>
                  <a:pt x="0" y="10433"/>
                </a:cubicBezTo>
                <a:cubicBezTo>
                  <a:pt x="5400" y="10433"/>
                  <a:pt x="10800" y="11333"/>
                  <a:pt x="10800" y="122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f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2781360"/>
            <a:ext cx="846144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0f03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2b0f03"/>
                </a:solidFill>
                <a:latin typeface="Times New Roman"/>
              </a:rPr>
              <a:t>又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间</a:t>
            </a:r>
            <a:r>
              <a:rPr b="1" lang="zh-CN" sz="2800" spc="-1" strike="noStrike">
                <a:solidFill>
                  <a:srgbClr val="2b0f03"/>
                </a:solidFill>
                <a:latin typeface="Times New Roman"/>
              </a:rPr>
              <a:t>焉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2b0f03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间</a:t>
            </a:r>
            <a:r>
              <a:rPr b="1" lang="zh-CN" sz="2800" spc="-1" strike="noStrike">
                <a:solidFill>
                  <a:srgbClr val="2b0f03"/>
                </a:solidFill>
                <a:latin typeface="Times New Roman"/>
              </a:rPr>
              <a:t>力拉崩倒之声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328464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3716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夹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79640" y="3357720"/>
            <a:ext cx="216000" cy="10490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7360 h 1049040"/>
              <a:gd name="textAreaBottom" fmla="*/ 1021680 h 104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f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3068640"/>
            <a:ext cx="68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0f03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2b0f03"/>
                </a:solidFill>
                <a:latin typeface="Times New Roman"/>
              </a:rPr>
              <a:t>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40000" y="981000"/>
            <a:ext cx="5861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0f03"/>
                </a:solidFill>
                <a:latin typeface="Times New Roman"/>
              </a:rPr>
              <a:t>望其旗靡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逐之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既克，公问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（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温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而知新（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0f03"/>
                </a:solidFill>
                <a:latin typeface="Times New Roman"/>
              </a:rPr>
              <a:t>北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2800" spc="-1" strike="noStrike">
                <a:solidFill>
                  <a:srgbClr val="2b0f03"/>
                </a:solidFill>
                <a:latin typeface="Times New Roman"/>
              </a:rPr>
              <a:t>宫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148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0f03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2b0f03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2b0f03"/>
                </a:solidFill>
                <a:latin typeface="Times New Roman"/>
              </a:rPr>
              <a:t>）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1268280"/>
            <a:ext cx="287280" cy="1808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7160 h 1808280"/>
              <a:gd name="textAreaBottom" fmla="*/ 1761120 h 180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1052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00720" y="15573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2205000"/>
            <a:ext cx="25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c64da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旧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2924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原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189000"/>
            <a:ext cx="619272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  <a:ea typeface="幼圆"/>
              </a:rPr>
              <a:t>7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  <a:ea typeface="幼圆"/>
              </a:rPr>
              <a:t>、 解释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1752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1295280"/>
            <a:ext cx="381240" cy="1752840"/>
          </a:xfrm>
          <a:custGeom>
            <a:avLst/>
            <a:gdLst>
              <a:gd name="textAreaLeft" fmla="*/ 243720 w 381240"/>
              <a:gd name="textAreaRight" fmla="*/ 381600 w 38124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1143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肉食者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2492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属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266688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342900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114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809880"/>
            <a:ext cx="457200" cy="1447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6"/>
                </a:lnTo>
                <a:cubicBezTo>
                  <a:pt x="10800" y="10166"/>
                  <a:pt x="5400" y="11066"/>
                  <a:pt x="0" y="11066"/>
                </a:cubicBezTo>
                <a:cubicBezTo>
                  <a:pt x="5400" y="11066"/>
                  <a:pt x="10800" y="11966"/>
                  <a:pt x="10800" y="1286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3581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4267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502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134136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1197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代词，指这件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92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助词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3352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凭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4952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9280" y="1268280"/>
            <a:ext cx="914400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c0b"/>
                </a:solidFill>
                <a:latin typeface="黑体"/>
                <a:ea typeface="黑体"/>
              </a:rPr>
              <a:t>A.</a:t>
            </a:r>
            <a:r>
              <a:rPr b="0" lang="zh-CN" sz="3200" spc="-1" strike="noStrike">
                <a:solidFill>
                  <a:srgbClr val="0d0c0b"/>
                </a:solidFill>
                <a:latin typeface="黑体"/>
                <a:ea typeface="黑体"/>
              </a:rPr>
              <a:t>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师</a:t>
            </a:r>
            <a:r>
              <a:rPr b="0" lang="zh-CN" sz="3200" spc="-1" strike="noStrike">
                <a:solidFill>
                  <a:srgbClr val="0d0c0b"/>
                </a:solidFill>
                <a:latin typeface="黑体"/>
                <a:ea typeface="黑体"/>
              </a:rPr>
              <a:t>伐我 威武之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师    </a:t>
            </a:r>
            <a:r>
              <a:rPr b="0" lang="zh-CN" sz="3200" spc="-1" strike="noStrike">
                <a:solidFill>
                  <a:srgbClr val="0d0c0b"/>
                </a:solidFill>
                <a:latin typeface="黑体"/>
                <a:ea typeface="黑体"/>
              </a:rPr>
              <a:t>B.</a:t>
            </a:r>
            <a:r>
              <a:rPr b="0" lang="zh-CN" sz="3200" spc="-1" strike="noStrike">
                <a:solidFill>
                  <a:srgbClr val="0d0c0b"/>
                </a:solidFill>
                <a:latin typeface="黑体"/>
                <a:ea typeface="黑体"/>
              </a:rPr>
              <a:t>肉食者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鄙</a:t>
            </a:r>
            <a:r>
              <a:rPr b="0" lang="zh-CN" sz="3200" spc="-1" strike="noStrike">
                <a:solidFill>
                  <a:srgbClr val="f1420b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d0c0b"/>
                </a:solidFill>
                <a:latin typeface="黑体"/>
                <a:ea typeface="黑体"/>
              </a:rPr>
              <a:t>卑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鄙</a:t>
            </a:r>
            <a:r>
              <a:rPr b="0" lang="zh-CN" sz="3200" spc="-1" strike="noStrike">
                <a:solidFill>
                  <a:srgbClr val="0d0c0b"/>
                </a:solidFill>
                <a:latin typeface="黑体"/>
                <a:ea typeface="黑体"/>
              </a:rPr>
              <a:t>无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c0b"/>
                </a:solidFill>
                <a:latin typeface="黑体"/>
                <a:ea typeface="黑体"/>
              </a:rPr>
              <a:t>C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牺牲</a:t>
            </a:r>
            <a:r>
              <a:rPr b="0" lang="zh-CN" sz="3200" spc="-1" strike="noStrike">
                <a:solidFill>
                  <a:srgbClr val="2c1202"/>
                </a:solidFill>
                <a:latin typeface="Times New Roman"/>
                <a:ea typeface="黑体"/>
              </a:rPr>
              <a:t>玉帛</a:t>
            </a:r>
            <a:r>
              <a:rPr b="0" lang="zh-CN" sz="3200" spc="-1" strike="noStrike">
                <a:solidFill>
                  <a:srgbClr val="2c1202"/>
                </a:solidFill>
                <a:latin typeface="Times New Roman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2c1202"/>
                </a:solidFill>
                <a:latin typeface="Times New Roman"/>
                <a:ea typeface="黑体"/>
              </a:rPr>
              <a:t>英勇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牺牲    </a:t>
            </a:r>
            <a:r>
              <a:rPr b="0" lang="zh-CN" sz="3200" spc="-1" strike="noStrike">
                <a:solidFill>
                  <a:srgbClr val="2c1202"/>
                </a:solidFill>
                <a:latin typeface="楷体_GB2312"/>
                <a:ea typeface="楷体_GB2312"/>
              </a:rPr>
              <a:t>D.</a:t>
            </a:r>
            <a:r>
              <a:rPr b="0" lang="zh-CN" sz="3200" spc="-1" strike="noStrike">
                <a:solidFill>
                  <a:srgbClr val="f1420b"/>
                </a:solidFill>
                <a:latin typeface="黑体"/>
                <a:ea typeface="黑体"/>
              </a:rPr>
              <a:t>忠</a:t>
            </a:r>
            <a:r>
              <a:rPr b="0" lang="zh-CN" sz="3200" spc="-1" strike="noStrike">
                <a:solidFill>
                  <a:srgbClr val="2c1202"/>
                </a:solidFill>
                <a:latin typeface="黑体"/>
                <a:ea typeface="黑体"/>
              </a:rPr>
              <a:t>之属也 赤胆</a:t>
            </a:r>
            <a:r>
              <a:rPr b="0" lang="zh-CN" sz="3200" spc="-1" strike="noStrike">
                <a:solidFill>
                  <a:srgbClr val="f1420b"/>
                </a:solidFill>
                <a:latin typeface="黑体"/>
                <a:ea typeface="黑体"/>
              </a:rPr>
              <a:t>忠</a:t>
            </a:r>
            <a:r>
              <a:rPr b="0" lang="zh-CN" sz="3200" spc="-1" strike="noStrike">
                <a:solidFill>
                  <a:srgbClr val="2c1202"/>
                </a:solidFill>
                <a:latin typeface="黑体"/>
                <a:ea typeface="黑体"/>
              </a:rPr>
              <a:t>心</a:t>
            </a:r>
            <a:r>
              <a:rPr b="0" lang="zh-CN" sz="3600" spc="-1" strike="noStrike">
                <a:solidFill>
                  <a:srgbClr val="2c1202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306864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11430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162864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620640"/>
            <a:ext cx="8820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各组中红色的词意思相同 的一项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740720" y="4046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47d1"/>
                </a:solidFill>
                <a:latin typeface="黑体"/>
                <a:ea typeface="黑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3284640"/>
            <a:ext cx="891540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句中红色的词与“忠之属也”的“属”意思相同的一项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予作文以记之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情与苏黄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猿长啸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凄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良田美池桑竹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40000" y="37162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47d1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14560" y="907920"/>
            <a:ext cx="6553080" cy="3750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复习目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、积累重点实词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、会翻译重点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、理解文章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、把握曹刿这一人物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、明确文章阐明的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0" y="1295280"/>
            <a:ext cx="91440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曹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       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又何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肉食者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        ）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       ）敢加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小惠未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徧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        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小信未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公与之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乘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）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战于长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下视其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）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登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）而望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彼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）我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望其旗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hu5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439720" y="20574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g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7088400" y="213372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j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352680" y="259092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b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622640" y="3124080"/>
            <a:ext cx="7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f 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125880" y="320040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b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167652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403320" y="2666880"/>
            <a:ext cx="7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f 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90920" y="3581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ch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43800" y="3581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shá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124080" y="4648320"/>
            <a:ext cx="165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zh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781680" y="4572000"/>
            <a:ext cx="118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sh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514600" y="51814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jié            y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276720" y="5546880"/>
            <a:ext cx="118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380880"/>
            <a:ext cx="35290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读准了吗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4960" y="1197000"/>
            <a:ext cx="1578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齐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又何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间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弗敢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专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弗敢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小大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忠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属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⑦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既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⑧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再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而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⑨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彼竭我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⑩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望其旗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908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9080" y="20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61040" y="2492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个人专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764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虚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908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案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7080" y="378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908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战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1080" y="463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第二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2360" y="5070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充满，指士气正旺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37840" y="551664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倒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7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学指导一：背诵重点词语的意思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88320" y="1362240"/>
            <a:ext cx="291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位合作互相检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肉食者谋之，又何间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衣食所安，弗敢专也，必以分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牺牲玉帛，弗敢加也，必以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30000" y="226224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大官们自会谋划这件事，你又何必参与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8560" y="349092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衣食这类用来养生的东西，我不敢独自享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一定把它分给别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62000" y="5219640"/>
            <a:ext cx="16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祭祀用的猪牛羊、玉器、丝织品之类，我不敢虚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一定对神诚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49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学指导二：口头翻译课文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2520" y="260280"/>
            <a:ext cx="37666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大之狱，虽不能察，必以情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忠之属也。可以一战。战则请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惠未遍，民弗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信未孚，神弗福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36520" y="2492280"/>
            <a:ext cx="145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这是忠于职守的一类事情，可以凭这个条件打一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作战时请让我跟从您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8280" y="414972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这是小恩小惠，不能遍及百姓，百姓是不会跟从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29920" y="544500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这是小信用，还不能使神信服，神是不会保佑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0920" y="692280"/>
            <a:ext cx="145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大大小小的案件，我即使不能一一明察，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定要根据实情来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71840" y="907920"/>
            <a:ext cx="136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鼓作气，再而衰，三而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夫大国，难测也，惧有伏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吾视其辙乱，望其旗靡，故逐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70440" y="3557520"/>
            <a:ext cx="5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齐国那样的大国难以估计，恐怕他们有埋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88200" y="478800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我看到他们战车的车轮痕迹很乱，望见他们的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旗倒下了，所以下令追击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5400" y="1335240"/>
            <a:ext cx="549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第一次击鼓，能够振作士兵的勇气，第二次击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士兵的勇气就减弱了，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第三次击鼓后士兵的勇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就消耗完了。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57440" y="1227240"/>
            <a:ext cx="4833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、用原文填空。（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分钟完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刿请见鲁庄公的原因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明取信于民是作战取胜的先决条件的句子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忠之属也”指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刿待齐人三鼓之后才下令击鼓进军的原因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刿“下视其辙，登轼而望之”的原因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840" y="76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自学检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61480" y="162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肉食者鄙，未能远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29040" y="29811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小大之狱，虽不能察，必以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86720" y="3773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小大之狱，虽不能察，必以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83360" y="50706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7600" y="636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夫大国，难测也，惧有伏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260280"/>
            <a:ext cx="67626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学指导三：复习课堂笔记（</a:t>
            </a: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6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钟）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05400" y="34920"/>
            <a:ext cx="5499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读课文，思考下列问题：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钟完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叙述的主要史实是什么？课文是按照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顺序来叙述的？叙述这一史实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肉食者鄙，未能远谋”一句在文中的作用是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曹刿和鲁庄公的对话，体现了曹刿怎样的战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战术思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庄公的“鄙”具体表现在哪些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认为曹刿和鲁庄公各是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7:18:22Z</dcterms:created>
  <dc:creator>999宝藏网</dc:creator>
  <dc:description/>
  <dc:language>en-US</dc:language>
  <cp:lastModifiedBy>Randy</cp:lastModifiedBy>
  <dcterms:modified xsi:type="dcterms:W3CDTF">2014-12-29T06:26:49Z</dcterms:modified>
  <cp:revision>17</cp:revision>
  <dc:subject/>
  <dc:title>幻灯片 1</dc:title>
</cp:coreProperties>
</file>